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E2C-D0A2-4B30-B3BE-437805F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C8F-0E68-42B3-9A12-7AB32DB7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C4F-D8C8-4F5F-BEE8-58A37054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A39-0498-4635-BF4A-524A2753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9854-A871-43CD-A202-5D74CB32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94F-636D-4791-B1C9-4DF3765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B1FE-7028-4D34-9F96-63332FC2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A55-6F48-4922-AE62-81158CFF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20A4-00ED-41DC-A9B6-F3D46C52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05E-51B7-416E-818C-0D287F4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912-C28C-43F7-A3B2-436AA44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33D-AC39-44B8-903D-E987C145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3D1-01E4-4EF1-9C57-4D8B0EF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D461-01A0-4B94-A763-A36018D8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96C7-767E-4AB9-9C9D-2F6A3F86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C4B6-B71C-4819-8D5A-0A7CA816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2CD-9BD3-4347-BDEC-6710160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284-F390-41D6-8437-319FA55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B8D-1C62-45AF-9367-2D52D22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E58-A75F-4826-BBE5-12D066BF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D31-F0F6-43F5-B014-B79A8D61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934-4C5B-4964-940E-5201FCD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1C2-F74A-40C4-B95D-03AB87A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114-F946-4005-94E5-0FDBFE4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185F-196C-4666-B07D-4486DAC9A79A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1836-5FF5-4A47-891A-C51935389087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Mon nom est: 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Mon mets préféré est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34:54Z</dcterms:created>
  <dc:creator>Marie-Pier</dc:creator>
  <dc:description/>
  <dc:language>en-US</dc:language>
  <cp:lastModifiedBy>Marie-Pier</cp:lastModifiedBy>
  <dcterms:modified xsi:type="dcterms:W3CDTF">2007-11-20T16:59:00Z</dcterms:modified>
  <cp:revision>5</cp:revision>
  <dc:subject/>
  <dc:title>Mon nom est: </dc:title>
</cp:coreProperties>
</file>